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908-3A7F-4127-9B7B-0026F9F1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DD1-05B8-4319-94A1-A86E9BD7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369-A392-495C-A193-15C7D8A1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D22-9E0D-4C9F-AA15-97BF5926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FE7-B76B-426D-8919-1C1A63AD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3C7-282D-47DB-92BD-9524ADDE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52A-34A3-4D0F-AC39-19B370C0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5C6-F746-40F9-9550-62166079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426-AAF1-48D1-93E6-D92B4975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7B4-FDE6-4D29-8229-B659CA49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830-8FFF-465E-8D79-3D1BF1A3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BCE-8BEB-4B89-9A73-613685BF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0E71-29A8-4A32-BCCD-C0CD72789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505320"/>
            <a:ext cx="2819160" cy="2590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3505320"/>
            <a:ext cx="2819160" cy="2590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762120"/>
            <a:ext cx="2819160" cy="2590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762120"/>
            <a:ext cx="2819160" cy="2590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6248520"/>
            <a:ext cx="2819160" cy="2590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248520"/>
            <a:ext cx="2819160" cy="2590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762120"/>
            <a:ext cx="2703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d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wo things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ain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ell three thing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election e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ne ….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wo things tha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an even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the nam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1120" y="763560"/>
            <a:ext cx="209952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der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the main idea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hat is meant by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ll 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story ha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that it d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the author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hat happened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eant by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characterize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40760" y="3506760"/>
            <a:ext cx="221364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compare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_____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contrast…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tive is there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 and ________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vidence can you find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the most exciting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theme of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deas justify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____ related to ___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556080"/>
            <a:ext cx="28018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xamples can you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uppo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result if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what you know, how w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olve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questions would you ask if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what you know, construct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a situation that occur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tory and tell what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______ similar to _______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classify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91960" y="6324480"/>
            <a:ext cx="24332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a new ending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rewrite the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______’s point of vie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predict will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ould you improve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hanges would you make to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e play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 a new sce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ould you change the pl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 a model that tells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nferences can you ma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6324480"/>
            <a:ext cx="297180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ify ____’s  actions in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agree with _____? Why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your opinion of ___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feel that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ld you recommend ____? Wh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hoice would you have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ere in ____ si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ld it be better if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as it better that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like b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3480" y="304920"/>
            <a:ext cx="45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vised Bloom’s Question St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52E-2994-4C1D-9E01-7069FCE855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23:32:14Z</dcterms:created>
  <dc:creator>Lisa Carter Waring</dc:creator>
  <dc:description/>
  <dc:language>en-US</dc:language>
  <cp:lastModifiedBy>Lisa Carter Waring</cp:lastModifiedBy>
  <dcterms:modified xsi:type="dcterms:W3CDTF">2009-06-10T23:32:49Z</dcterms:modified>
  <cp:revision>1</cp:revision>
  <dc:subject/>
  <dc:title>Slide 1</dc:title>
</cp:coreProperties>
</file>